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F858-1AAF-4DD1-BF91-E17CDA8F5D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A07A-186D-4B46-8BE2-1809C4E1EA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867-0E96-4D84-892C-96173EDD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911-D04E-4B2E-BBDB-1CCA7F0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631-091B-4A3D-BFEA-04432D18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406-7E61-4B66-A363-2810D774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A37-A19A-42FB-B2CC-BDF5741A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E26-071A-4AA0-B18C-1684F152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EA1-05D3-4525-A93B-B906824F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7E7-1675-4DCE-A816-9456AA87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C10-C3D4-4187-ADBE-BA6064D2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407-40D7-41C4-BCD3-DD3CE0C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D87-36AA-4DBA-85E7-E351CA4B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112-9673-44E0-9C1B-558606C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DC86-04F4-4D7B-A033-43EED21A66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78596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46492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39600" y="185904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 顾 与 整 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1979640" y="368784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369900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正 比 例    反 比 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450800" y="285264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数 与 代 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9"/>
          <p:cNvSpPr/>
          <p:nvPr/>
        </p:nvSpPr>
        <p:spPr>
          <a:xfrm>
            <a:off x="357120" y="3141720"/>
            <a:ext cx="81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表中有哪两种量？它们是不是相关联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4" descr="C:\Users\phcui\Desktop\人教数学6B(2014.10.第1版)\正文(48).jpg"/>
          <p:cNvPicPr/>
          <p:nvPr/>
        </p:nvPicPr>
        <p:blipFill>
          <a:blip r:embed="rId1"/>
          <a:stretch/>
        </p:blipFill>
        <p:spPr>
          <a:xfrm>
            <a:off x="2700360" y="619200"/>
            <a:ext cx="3311640" cy="9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03280" y="1771560"/>
          <a:ext cx="7705800" cy="1181160"/>
        </p:xfrm>
        <a:graphic>
          <a:graphicData uri="http://schemas.openxmlformats.org/drawingml/2006/table">
            <a:tbl>
              <a:tblPr/>
              <a:tblGrid>
                <a:gridCol w="2757600"/>
                <a:gridCol w="988920"/>
                <a:gridCol w="919080"/>
                <a:gridCol w="919080"/>
                <a:gridCol w="636840"/>
                <a:gridCol w="847440"/>
                <a:gridCol w="636840"/>
              </a:tblGrid>
              <a:tr h="590760"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每天运的吨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90400"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货的天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69"/>
          <p:cNvSpPr/>
          <p:nvPr/>
        </p:nvSpPr>
        <p:spPr>
          <a:xfrm>
            <a:off x="395280" y="36972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写出几组这两种量中相对应的两个数的积，并比较积的大小，说一说这个积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9"/>
          <p:cNvSpPr/>
          <p:nvPr/>
        </p:nvSpPr>
        <p:spPr>
          <a:xfrm>
            <a:off x="395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货天数与每天运的吨数成反比例关系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9"/>
          <p:cNvSpPr/>
          <p:nvPr/>
        </p:nvSpPr>
        <p:spPr>
          <a:xfrm>
            <a:off x="684360" y="1179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表中有运货天数与每天运的吨数两种量，它们是相关联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9"/>
          <p:cNvSpPr/>
          <p:nvPr/>
        </p:nvSpPr>
        <p:spPr>
          <a:xfrm>
            <a:off x="530280" y="225900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×1=150×2=75×4=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9"/>
          <p:cNvSpPr/>
          <p:nvPr/>
        </p:nvSpPr>
        <p:spPr>
          <a:xfrm>
            <a:off x="530280" y="377028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运货天数与每天运的吨数乘积一定，运货天数与每天运的吨数成反比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9"/>
          <p:cNvSpPr/>
          <p:nvPr/>
        </p:nvSpPr>
        <p:spPr>
          <a:xfrm>
            <a:off x="826920" y="2862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积相等，总共运的吨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26960" y="20588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∶6 =8∶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∶4 =3∶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样表示两个比相等的式子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比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1"/>
          <p:cNvGrpSpPr/>
          <p:nvPr/>
        </p:nvGrpSpPr>
        <p:grpSpPr>
          <a:xfrm>
            <a:off x="3070080" y="2517840"/>
            <a:ext cx="3519720" cy="1528560"/>
            <a:chOff x="3070080" y="2517840"/>
            <a:chExt cx="3519720" cy="1528560"/>
          </a:xfrm>
        </p:grpSpPr>
        <p:pic>
          <p:nvPicPr>
            <p:cNvPr id="56" name="图片 25" descr="正文 (15).png"/>
            <p:cNvPicPr/>
            <p:nvPr/>
          </p:nvPicPr>
          <p:blipFill>
            <a:blip r:embed="rId1"/>
            <a:stretch/>
          </p:blipFill>
          <p:spPr>
            <a:xfrm>
              <a:off x="3246480" y="2833920"/>
              <a:ext cx="1990440" cy="107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17"/>
            <p:cNvSpPr/>
            <p:nvPr/>
          </p:nvSpPr>
          <p:spPr>
            <a:xfrm>
              <a:off x="3070080" y="2517840"/>
              <a:ext cx="35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∶6 =8∶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8"/>
            <p:cNvSpPr/>
            <p:nvPr/>
          </p:nvSpPr>
          <p:spPr>
            <a:xfrm>
              <a:off x="3798720" y="311940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内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19"/>
            <p:cNvSpPr/>
            <p:nvPr/>
          </p:nvSpPr>
          <p:spPr>
            <a:xfrm>
              <a:off x="3790800" y="352584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外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0"/>
          <p:cNvGrpSpPr/>
          <p:nvPr/>
        </p:nvGrpSpPr>
        <p:grpSpPr>
          <a:xfrm>
            <a:off x="712800" y="4245120"/>
            <a:ext cx="8001000" cy="877680"/>
            <a:chOff x="712800" y="4245120"/>
            <a:chExt cx="8001000" cy="877680"/>
          </a:xfrm>
        </p:grpSpPr>
        <p:sp>
          <p:nvSpPr>
            <p:cNvPr id="61" name="矩形 20"/>
            <p:cNvSpPr/>
            <p:nvPr/>
          </p:nvSpPr>
          <p:spPr>
            <a:xfrm>
              <a:off x="712800" y="43164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∶6 =8∶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也可以写成             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29"/>
            <p:cNvGrpSpPr/>
            <p:nvPr/>
          </p:nvGrpSpPr>
          <p:grpSpPr>
            <a:xfrm>
              <a:off x="4927680" y="4245120"/>
              <a:ext cx="1571400" cy="877680"/>
              <a:chOff x="4927680" y="4245120"/>
              <a:chExt cx="1571400" cy="877680"/>
            </a:xfrm>
          </p:grpSpPr>
          <p:grpSp>
            <p:nvGrpSpPr>
              <p:cNvPr id="63" name="组合 28"/>
              <p:cNvGrpSpPr/>
              <p:nvPr/>
            </p:nvGrpSpPr>
            <p:grpSpPr>
              <a:xfrm>
                <a:off x="4927680" y="4245120"/>
                <a:ext cx="571320" cy="877680"/>
                <a:chOff x="4927680" y="4245120"/>
                <a:chExt cx="571320" cy="877680"/>
              </a:xfrm>
            </p:grpSpPr>
            <p:sp>
              <p:nvSpPr>
                <p:cNvPr id="64" name="矩形 22"/>
                <p:cNvSpPr/>
                <p:nvPr/>
              </p:nvSpPr>
              <p:spPr>
                <a:xfrm>
                  <a:off x="4927680" y="4245120"/>
                  <a:ext cx="571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矩形 23"/>
                <p:cNvSpPr/>
                <p:nvPr/>
              </p:nvSpPr>
              <p:spPr>
                <a:xfrm>
                  <a:off x="4998960" y="4602240"/>
                  <a:ext cx="500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组合 27"/>
              <p:cNvGrpSpPr/>
              <p:nvPr/>
            </p:nvGrpSpPr>
            <p:grpSpPr>
              <a:xfrm>
                <a:off x="5999040" y="4245120"/>
                <a:ext cx="500040" cy="854640"/>
                <a:chOff x="5999040" y="4245120"/>
                <a:chExt cx="500040" cy="854640"/>
              </a:xfrm>
            </p:grpSpPr>
            <p:sp>
              <p:nvSpPr>
                <p:cNvPr id="67" name="矩形 24"/>
                <p:cNvSpPr/>
                <p:nvPr/>
              </p:nvSpPr>
              <p:spPr>
                <a:xfrm>
                  <a:off x="5999040" y="4579200"/>
                  <a:ext cx="500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矩形 25"/>
                <p:cNvSpPr/>
                <p:nvPr/>
              </p:nvSpPr>
              <p:spPr>
                <a:xfrm>
                  <a:off x="6001200" y="42451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矩形 26"/>
              <p:cNvSpPr/>
              <p:nvPr/>
            </p:nvSpPr>
            <p:spPr>
              <a:xfrm>
                <a:off x="5527080" y="4388040"/>
                <a:ext cx="397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文本框 3"/>
          <p:cNvSpPr/>
          <p:nvPr/>
        </p:nvSpPr>
        <p:spPr>
          <a:xfrm>
            <a:off x="527040" y="1208160"/>
            <a:ext cx="27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3"/>
          <p:cNvSpPr/>
          <p:nvPr/>
        </p:nvSpPr>
        <p:spPr>
          <a:xfrm>
            <a:off x="493560" y="741240"/>
            <a:ext cx="77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因数中选出四个数组成比例，请写出三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1"/>
          <a:stretch/>
        </p:blipFill>
        <p:spPr>
          <a:xfrm>
            <a:off x="7775640" y="1814400"/>
            <a:ext cx="871560" cy="1324080"/>
          </a:xfrm>
          <a:prstGeom prst="rect">
            <a:avLst/>
          </a:prstGeom>
          <a:ln w="0">
            <a:noFill/>
          </a:ln>
        </p:spPr>
      </p:pic>
      <p:sp>
        <p:nvSpPr>
          <p:cNvPr id="73" name="圆角矩形标注 3"/>
          <p:cNvSpPr/>
          <p:nvPr/>
        </p:nvSpPr>
        <p:spPr>
          <a:xfrm>
            <a:off x="2046240" y="1814400"/>
            <a:ext cx="5394240" cy="509760"/>
          </a:xfrm>
          <a:prstGeom prst="wedgeRoundRectCallout">
            <a:avLst>
              <a:gd name="adj1" fmla="val 55851"/>
              <a:gd name="adj2" fmla="val 4617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你写出的比例和大家交流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784080" y="3138480"/>
            <a:ext cx="75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因数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3240000" y="396396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∶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∶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3240000" y="454824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∶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∶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3240000" y="513396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∶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∶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3240000" y="571824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∶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∶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"/>
          <p:cNvSpPr/>
          <p:nvPr/>
        </p:nvSpPr>
        <p:spPr>
          <a:xfrm>
            <a:off x="162000" y="669960"/>
            <a:ext cx="89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下面各题中两种量成不成比例，成什么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7962840" y="5203800"/>
            <a:ext cx="871560" cy="1249560"/>
          </a:xfrm>
          <a:prstGeom prst="rect">
            <a:avLst/>
          </a:prstGeom>
          <a:ln w="0">
            <a:noFill/>
          </a:ln>
        </p:spPr>
      </p:pic>
      <p:sp>
        <p:nvSpPr>
          <p:cNvPr id="81" name="圆角矩形标注 3"/>
          <p:cNvSpPr/>
          <p:nvPr/>
        </p:nvSpPr>
        <p:spPr>
          <a:xfrm>
            <a:off x="1424160" y="5318280"/>
            <a:ext cx="6040440" cy="509400"/>
          </a:xfrm>
          <a:prstGeom prst="wedgeRoundRectCallout">
            <a:avLst>
              <a:gd name="adj1" fmla="val 55851"/>
              <a:gd name="adj2" fmla="val 46171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举出生活中成正、反比例的例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"/>
          <p:cNvSpPr/>
          <p:nvPr/>
        </p:nvSpPr>
        <p:spPr>
          <a:xfrm>
            <a:off x="162000" y="1919160"/>
            <a:ext cx="75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砖铺地，砖的块数和铺地的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2262240" y="4363920"/>
            <a:ext cx="23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162000" y="340992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平行四边形的面积一定，它的底和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"/>
          <p:cNvSpPr/>
          <p:nvPr/>
        </p:nvSpPr>
        <p:spPr>
          <a:xfrm>
            <a:off x="2262240" y="250524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正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"/>
          <p:cNvSpPr/>
          <p:nvPr/>
        </p:nvSpPr>
        <p:spPr>
          <a:xfrm>
            <a:off x="316080" y="758880"/>
            <a:ext cx="825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种药水是把药粉和水按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∶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质量比配制而成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"/>
          <p:cNvSpPr/>
          <p:nvPr/>
        </p:nvSpPr>
        <p:spPr>
          <a:xfrm>
            <a:off x="239760" y="3084480"/>
            <a:ext cx="88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分别算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克药粉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克药粉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克药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需要加入多少克水，填在下表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6080" y="4567320"/>
          <a:ext cx="8431200" cy="1461960"/>
        </p:xfrm>
        <a:graphic>
          <a:graphicData uri="http://schemas.openxmlformats.org/drawingml/2006/table">
            <a:tbl>
              <a:tblPr/>
              <a:tblGrid>
                <a:gridCol w="1873080"/>
                <a:gridCol w="936720"/>
                <a:gridCol w="936360"/>
                <a:gridCol w="938520"/>
                <a:gridCol w="936360"/>
                <a:gridCol w="936720"/>
                <a:gridCol w="936720"/>
                <a:gridCol w="936720"/>
              </a:tblGrid>
              <a:tr h="731880"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药粉（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>
                      <a:noFill/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水（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 w="5760">
                      <a:solidFill>
                        <a:srgbClr val="3c8c93"/>
                      </a:solidFill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  <a:tc>
                  <a:txBody>
                    <a:bodyPr tIns="64440" bIns="64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c8c93"/>
                      </a:solidFill>
                    </a:lnL>
                    <a:lnR>
                      <a:noFill/>
                    </a:lnR>
                    <a:lnT w="5760">
                      <a:solidFill>
                        <a:srgbClr val="3c8c93"/>
                      </a:solidFill>
                    </a:lnT>
                    <a:lnB w="5760">
                      <a:solidFill>
                        <a:srgbClr val="3c8c9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文本框 3"/>
          <p:cNvSpPr/>
          <p:nvPr/>
        </p:nvSpPr>
        <p:spPr>
          <a:xfrm>
            <a:off x="4184640" y="5384880"/>
            <a:ext cx="8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"/>
          <p:cNvSpPr/>
          <p:nvPr/>
        </p:nvSpPr>
        <p:spPr>
          <a:xfrm>
            <a:off x="5070600" y="5378400"/>
            <a:ext cx="8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"/>
          <p:cNvSpPr/>
          <p:nvPr/>
        </p:nvSpPr>
        <p:spPr>
          <a:xfrm>
            <a:off x="5875200" y="53658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"/>
          <p:cNvSpPr/>
          <p:nvPr/>
        </p:nvSpPr>
        <p:spPr>
          <a:xfrm>
            <a:off x="6840360" y="535320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7829640" y="5338800"/>
            <a:ext cx="10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3316320" y="1893960"/>
            <a:ext cx="19828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图表 6"/>
          <p:cNvGraphicFramePr/>
          <p:nvPr/>
        </p:nvGraphicFramePr>
        <p:xfrm>
          <a:off x="3220920" y="619200"/>
          <a:ext cx="5143680" cy="41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图表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0920" y="619200"/>
                    <a:ext cx="514368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文本框 3"/>
          <p:cNvSpPr/>
          <p:nvPr/>
        </p:nvSpPr>
        <p:spPr>
          <a:xfrm>
            <a:off x="90360" y="4213080"/>
            <a:ext cx="40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看图回答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216000" y="4998960"/>
            <a:ext cx="75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克药粉配制药水，需加水多少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3444840" y="5740560"/>
            <a:ext cx="40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需加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"/>
          <p:cNvSpPr/>
          <p:nvPr/>
        </p:nvSpPr>
        <p:spPr>
          <a:xfrm>
            <a:off x="353880" y="1135080"/>
            <a:ext cx="28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上面的数据在方格纸上画图表示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89080" y="1182600"/>
            <a:ext cx="85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水配成药水，需要药粉多少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"/>
          <p:cNvSpPr/>
          <p:nvPr/>
        </p:nvSpPr>
        <p:spPr>
          <a:xfrm>
            <a:off x="3562200" y="2259000"/>
            <a:ext cx="41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需要药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3"/>
          <p:cNvSpPr/>
          <p:nvPr/>
        </p:nvSpPr>
        <p:spPr>
          <a:xfrm>
            <a:off x="250920" y="749160"/>
            <a:ext cx="8642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写出两个比值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比，并组成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写出一个比例，使它的两个内项的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271440" y="4508640"/>
            <a:ext cx="8875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）。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: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（    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12880" y="28335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:3        18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720800" y="371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:1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039000" y="4648320"/>
            <a:ext cx="5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7259760" y="4648320"/>
            <a:ext cx="5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对象 9"/>
              <p:cNvSpPr txBox="1"/>
              <p:nvPr/>
            </p:nvSpPr>
            <p:spPr>
              <a:xfrm>
                <a:off x="5608800" y="4997520"/>
                <a:ext cx="504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3"/>
          <p:cNvSpPr/>
          <p:nvPr/>
        </p:nvSpPr>
        <p:spPr>
          <a:xfrm>
            <a:off x="316080" y="1052640"/>
            <a:ext cx="8254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看图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总价与数量的比是（        ），比值是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路程与时间的比是（        ），比值是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Administrator\Desktop\360软件小助手截图20150421223851.png"/>
          <p:cNvPicPr/>
          <p:nvPr/>
        </p:nvPicPr>
        <p:blipFill>
          <a:blip r:embed="rId1"/>
          <a:stretch/>
        </p:blipFill>
        <p:spPr>
          <a:xfrm>
            <a:off x="4140360" y="3371760"/>
            <a:ext cx="44305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Administrator\Desktop\360软件小助手截图20150421223829.png"/>
          <p:cNvPicPr/>
          <p:nvPr/>
        </p:nvPicPr>
        <p:blipFill>
          <a:blip r:embed="rId2"/>
          <a:stretch/>
        </p:blipFill>
        <p:spPr>
          <a:xfrm>
            <a:off x="1476360" y="3467160"/>
            <a:ext cx="2000160" cy="2114640"/>
          </a:xfrm>
          <a:prstGeom prst="rect">
            <a:avLst/>
          </a:prstGeom>
          <a:ln w="0">
            <a:noFill/>
          </a:ln>
        </p:spPr>
      </p:pic>
      <p:sp>
        <p:nvSpPr>
          <p:cNvPr id="113" name="圆角矩形标注 3"/>
          <p:cNvSpPr/>
          <p:nvPr/>
        </p:nvSpPr>
        <p:spPr>
          <a:xfrm>
            <a:off x="755640" y="3371760"/>
            <a:ext cx="1440000" cy="920880"/>
          </a:xfrm>
          <a:prstGeom prst="wedgeRoundRectCallout">
            <a:avLst>
              <a:gd name="adj1" fmla="val 59152"/>
              <a:gd name="adj2" fmla="val 44444"/>
              <a:gd name="adj3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标注 6"/>
          <p:cNvSpPr/>
          <p:nvPr/>
        </p:nvSpPr>
        <p:spPr>
          <a:xfrm>
            <a:off x="4284720" y="3467160"/>
            <a:ext cx="2209680" cy="1393920"/>
          </a:xfrm>
          <a:prstGeom prst="wedgeRoundRectCallout">
            <a:avLst>
              <a:gd name="adj1" fmla="val 54365"/>
              <a:gd name="adj2" fmla="val 16569"/>
              <a:gd name="adj3" fmla="val 16667"/>
            </a:avLst>
          </a:prstGeom>
          <a:solidFill>
            <a:srgbClr val="80808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84360" y="333864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408560" y="360504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行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390920" y="180648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4370400" y="2496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8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7294680" y="24969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7389720" y="187632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6:5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